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36F-460D-41E3-82C7-2976F56F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4F7-5757-4AEB-B463-38AF7FE1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604-42C8-49ED-89B7-31EA191D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59E-BFE5-4B8F-8B27-63FB4B0C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7265-34FB-45F6-A5A6-3F6FF33F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2CC4-80A9-42D3-9231-72722AF1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3EC0-2CFC-4DE7-83AC-E87C8A42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B02-447C-49BA-85CD-3CE0949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6916-51C8-49F6-82D4-23DC138D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9D2D-1C74-413E-B7B8-45F48A93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F3A2-BE6B-432A-BC42-393908BC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87A-DA84-4953-ADC1-35A08300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312D-8B8E-4181-B152-2075630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FA1C-4B99-4B3C-BA6D-F485CAB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A74D-C943-4C50-B98F-CD0A1EF2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6FE-6F54-4DCA-B7A8-B176CB98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958B-7A20-453B-8976-E8A3D739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58F-8BB6-4BB0-918E-4761B3A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CB7-B5CB-4D11-98DF-B2723B86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661-AB02-4766-BD8C-5BFCC809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FA1-7F0C-4E46-B7A0-6D3975AC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85F-1D05-422A-BF85-F17AD584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F94-2DEB-423C-A5B4-BDCE93B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DEC-9D65-4808-BA29-5A3261E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FA9-489C-44CB-9409-E9B9AA9D04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4E6-79EF-47F9-A95E-405F77F0B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est revi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est date: 2/11/0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71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lassification of skil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predic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not control variables i.e speed /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volley in foot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dic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riable stay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on is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serve in badmin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ttl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ic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ttle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forward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y subroutines /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ordination is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backhand overhead drop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am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Choose an activity. Describe the features of a model performance in a skill of your choice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swering the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me the activity and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type of skill is 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purpose of the skill? i.e. OHC is a building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lain that skills can be broken down into P.A.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the P.A.R of the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804000" y="189000"/>
            <a:ext cx="213372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dentify strengths and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mprove your skill level using a P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i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Why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ermanent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pe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be com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liabl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troll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3141720"/>
          <a:ext cx="8458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41720"/>
                    <a:ext cx="8458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st link to the stage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Shadow prac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preparation s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i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petition drills (prep / 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or without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inuous rally (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th players play same shot repeated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bination rall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ditioned gam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cus on a certain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essure drills 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rove skill whilst under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inciples of effective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improve you must consider the following when pract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ear goal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know what you want to improve, be SM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rk / rest rati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igh quality practise over a short time i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gres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Challenging practices that get gradually more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tivation / concentr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ave the desire to succeed and be fully focused during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must be POSITIVE, accurate and given quickly. Can be intrinsic or extrin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26:10Z</dcterms:created>
  <dc:creator>FlemingC1</dc:creator>
  <dc:description/>
  <dc:language>en-US</dc:language>
  <cp:lastModifiedBy>Flemingc1</cp:lastModifiedBy>
  <dcterms:modified xsi:type="dcterms:W3CDTF">2009-10-26T12:08:04Z</dcterms:modified>
  <cp:revision>6</cp:revision>
  <dc:subject/>
  <dc:title>Skills and Techniques </dc:title>
</cp:coreProperties>
</file>